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2463480"/>
            <a:ext cx="10769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5041800"/>
            <a:ext cx="1076976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07280" cy="88920"/>
            <a:chOff x="0" y="0"/>
            <a:chExt cx="10007280" cy="8892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143320" y="3744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485136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850680" y="837720"/>
            <a:ext cx="113029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385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1" marL="700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2" marL="1056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3" marL="141228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4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5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6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2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2438280"/>
            <a:ext cx="1242072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7440" y="2971440"/>
            <a:ext cx="1076976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10007280" cy="88920"/>
            <a:chOff x="0" y="0"/>
            <a:chExt cx="10007280" cy="8892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143320" y="3744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485136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080" y="914040"/>
            <a:ext cx="5131080" cy="408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080" y="5041800"/>
            <a:ext cx="513108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4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4368600" cy="88920"/>
            <a:chOff x="0" y="0"/>
            <a:chExt cx="4368600" cy="8892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203184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2336400" y="37440"/>
              <a:ext cx="203220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203184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4388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4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3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1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7440" y="2463480"/>
            <a:ext cx="10769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The Tampa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7440" y="5041800"/>
            <a:ext cx="1076976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421"/>
                </a:solidFill>
                <a:latin typeface="Bodoni SvtyTwo SC ITC TT-Book"/>
              </a:rPr>
              <a:t>Nick Yun</a:t>
            </a:r>
            <a:endParaRPr b="0" lang="en-US" sz="3600" spc="-1" strike="noStrike">
              <a:solidFill>
                <a:srgbClr val="a53421"/>
              </a:solidFill>
              <a:latin typeface="Bodoni SvtyTwo SC ITC TT-Book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3772080" y="5956200"/>
            <a:ext cx="546084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Background Info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50680" y="265392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433a"/>
                </a:solidFill>
                <a:latin typeface="Hoefler Text"/>
              </a:rPr>
              <a:t>The Palapa, a fishing boat, was stranded in international waters </a:t>
            </a:r>
            <a:endParaRPr b="0" lang="en-US" sz="30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433a"/>
                </a:solidFill>
                <a:latin typeface="Hoefler Text"/>
              </a:rPr>
              <a:t>In August 2001, Tampa, a norwegian ship used for carrying containers, manufactured in Korea, had rescued 438 Afghans  from a distressed fishing vessel in international waters.  </a:t>
            </a:r>
            <a:endParaRPr b="0" lang="en-US" sz="30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433a"/>
                </a:solidFill>
                <a:latin typeface="Hoefler Text"/>
              </a:rPr>
              <a:t>The ship that should have bound for Indonesian ports, went to Christmas Island, Australian territory, which was closer. </a:t>
            </a:r>
            <a:endParaRPr b="0" lang="en-US" sz="30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433a"/>
                </a:solidFill>
                <a:latin typeface="Hoefler Text"/>
              </a:rPr>
              <a:t>Australia refused to allow the ship to enter their territorial waters, but captain Rinnan entered anyways for the sake of the 438 assylums. </a:t>
            </a:r>
            <a:endParaRPr b="0" lang="en-US" sz="30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ontinued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e ship was stopped by Australian special forces by the Prime Minister.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e Australian begged the ship be taken to Indonesia or Norway but was refuse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ey finally came up with the Pacific Solution and was taken to Nauru instead of Australia where the refugee status’ were considered and taken care of.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Policy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According to international law, survivors of a shipwreck are to be taken to the closest suitable port for medical treatment.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hristmas Island, an Australian territory, lies within a zone designated as Indonesia’s responsibility for rescue according to an agreement made in 1990 between Australia and Indonesia.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Political effect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Australia was criticized by many countries mainly Norway accusing it of evading human rights responsibilities.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Domestically, the government popularity rose being able to defend the crisis especially after 9/11 attack on the twin towers.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